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38"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6"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4"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2"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90"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253160" indent="-53676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671120" indent="-53712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2089080" indent="-537120">
              <a:spcBef>
                <a:spcPts val="2401"/>
              </a:spcBef>
              <a:buClr>
                <a:srgbClr val="ffffff"/>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506680" indent="-536760">
              <a:spcBef>
                <a:spcPts val="2401"/>
              </a:spcBef>
              <a:buClr>
                <a:srgbClr val="ffffff"/>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506680" indent="-536760">
              <a:spcBef>
                <a:spcPts val="104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506680" indent="-536760">
              <a:spcBef>
                <a:spcPts val="104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5"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3"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Battle of Britain</a:t>
            </a:r>
            <a:endParaRPr b="0" lang="en-US" sz="8400" spc="-1" strike="noStrike">
              <a:solidFill>
                <a:srgbClr val="ffffff"/>
              </a:solidFill>
              <a:latin typeface="Gill Sans"/>
            </a:endParaRPr>
          </a:p>
        </p:txBody>
      </p:sp>
      <p:sp>
        <p:nvSpPr>
          <p:cNvPr id="528"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Gill Sans"/>
              </a:rPr>
              <a:t>The Blitz</a:t>
            </a:r>
            <a:endParaRPr b="0" lang="en-US" sz="48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3873600" y="1917720"/>
            <a:ext cx="6603840" cy="6222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2832120" y="2502000"/>
            <a:ext cx="7924680" cy="5460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2438280" y="1727280"/>
            <a:ext cx="8128080" cy="5879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2527200" y="-520560"/>
            <a:ext cx="7302600" cy="9207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2743200" y="1892160"/>
            <a:ext cx="7505640" cy="5956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260440" y="2222640"/>
            <a:ext cx="8128080" cy="6095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825480" y="533520"/>
            <a:ext cx="13436640" cy="975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762120" y="76320"/>
            <a:ext cx="12585600" cy="9423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2768760" y="2082960"/>
            <a:ext cx="7467480" cy="5981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p:nvPr/>
        </p:nvSpPr>
        <p:spPr>
          <a:xfrm>
            <a:off x="165240" y="2895480"/>
            <a:ext cx="13004640" cy="6515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Arial"/>
              </a:rPr>
              <a:t>The gratitude of every home in our Island, in our Empire, and indeed throughout the world, except in the abodes of the guilty, goes out to the British airmen who, undaunted by odds, unwearied in their constant challenge and mortal danger, are turning the tide of the World War by their prowess and by their devotion. </a:t>
            </a:r>
            <a:r>
              <a:rPr b="1" lang="en-US" sz="4200" spc="-1" strike="noStrike">
                <a:solidFill>
                  <a:srgbClr val="ffffff"/>
                </a:solidFill>
                <a:latin typeface="Arial"/>
                <a:ea typeface="Arial"/>
              </a:rPr>
              <a:t>Never in the field of human conflict was so much owed by so many to so few.</a:t>
            </a:r>
            <a:endParaRPr b="0" lang="en-US" sz="4200" spc="-1" strike="noStrike">
              <a:solidFill>
                <a:srgbClr val="ffffff"/>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Churchill, </a:t>
            </a:r>
            <a:r>
              <a:rPr b="0" lang="en-US" sz="4200" spc="-1" strike="noStrike">
                <a:solidFill>
                  <a:srgbClr val="ffffff"/>
                </a:solidFill>
                <a:latin typeface="Arial"/>
                <a:ea typeface="Arial"/>
              </a:rPr>
              <a:t> </a:t>
            </a:r>
            <a:endParaRPr b="0" lang="en-US" sz="42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507960" y="-291960"/>
            <a:ext cx="12242880" cy="965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641520" y="571680"/>
            <a:ext cx="11986920" cy="8902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2184480" y="1752480"/>
            <a:ext cx="8636040" cy="668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1523880" y="723960"/>
            <a:ext cx="10160280" cy="8585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2286000" y="1422360"/>
            <a:ext cx="8051760" cy="737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565360" y="2641680"/>
            <a:ext cx="8140680" cy="509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2438280" y="2908440"/>
            <a:ext cx="8128080" cy="4572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3657600" y="2654280"/>
            <a:ext cx="6045120" cy="5079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